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D5A-F464-4715-90E8-60DC5362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AC3-4E05-4228-AE31-EBBA7463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138-5277-475B-B1FD-462DD48E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5DF-206C-4F9D-8D29-A1AE6657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BFD7-A7EC-4F2D-A39E-C62618F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D371-EC48-4C9D-9572-585A70E2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FE7D-C19D-43F6-98C0-F6A9BE6F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9E7-3689-494B-B10C-C6DC4CE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AEAF-ADAB-43CC-A9E9-F7EF976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9E1-EA37-471B-BBF0-C76B55C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4112-317C-47E9-9DB6-5914855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CC6-3A84-4E97-9FE7-990410B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D57-9C33-4242-9F0A-F12A8CD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3393-509B-4CA7-8A16-46CEC3A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6DD-A94B-465C-BAF1-0C13391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6F3-01A1-4983-88B0-3DFBA75B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C44-BBA8-4D88-8519-E9B297D7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233-5EE2-4BDF-A268-3B35BAD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B65-539E-40C4-BADB-1185C2DA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119-B3A1-41BE-8143-45C0C137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477-AE56-4A06-BA94-11877774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742-35DB-4D6E-8CE2-5210398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56D-D4AC-4A23-84C7-90A59CB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BB9-A2E6-495F-A163-CC8F8CE7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385D-EB34-4049-84AC-9D382E297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D91-AE76-4F93-BBB7-D3374BB2A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From Cookbook to Inquiry</a:t>
            </a:r>
            <a:endParaRPr b="1" i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okbook Labs and Modeling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are demonstrating fac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only answ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s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provide the single correct explanation or mode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hanging from cookbook to inquiry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162920" cy="36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students a goal to accompli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decide h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only essential procedur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safety and equip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telling students what to d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0000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one’s the hard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ow do you know it’s inquiry? Students will: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ience scientific proce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observa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higher order think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their own conclus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Activity Sections Due:</a:t>
            </a:r>
            <a:endParaRPr b="1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2320" y="1904760"/>
            <a:ext cx="632448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iona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25"/>
              </a:spcAft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erials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35:34Z</dcterms:created>
  <dc:creator>Cynthia J. Moore</dc:creator>
  <dc:description/>
  <dc:language>en-US</dc:language>
  <cp:lastModifiedBy>Cynthia Moore</cp:lastModifiedBy>
  <dcterms:modified xsi:type="dcterms:W3CDTF">2011-02-16T16:06:29Z</dcterms:modified>
  <cp:revision>30</cp:revision>
  <dc:subject/>
  <dc:title>Cookbook to Inquiry</dc:title>
</cp:coreProperties>
</file>